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BB0-D5C9-497C-A75F-F6741489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47C-157D-4C2F-98CA-CD49C871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02F-9C31-480D-BB1B-91154BF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2A3-F450-402D-87AF-A35EE97A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129D-969B-4312-8400-337F3C50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A4E8-AA69-4220-A980-4FF42B44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4959-D516-4015-89E7-466DF176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FF4B-1B9D-4BF7-8DD7-8979FEB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0005-47FF-46B9-9A0F-D9517DF9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D875-7350-4601-8921-D38021C9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9597-8A3E-4E73-A390-03BABC9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E6F-3502-4AC9-B099-CD0DB2E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4F20-FD1C-41D9-B0F0-6AC7109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C89B-C35C-4677-9E2A-56DC41C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61E5-65C5-46EA-88F3-A45E5AB2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C8A-8BBD-4B3D-AACB-CD96A482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ADB4-3A6A-49B4-8129-36083055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399-8789-469C-B0B1-DE133042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674-B3D8-4198-9A2E-AA006A2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858-BF20-4F1B-8E11-F2AE643F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2B1-A193-4A2E-87D6-B605E1E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A46-12EC-4053-8184-FAEAABA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4E5-50C8-46E6-9997-7F9A39FE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AC0-281C-45CE-8813-5124866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2BED-19C7-4B89-AB99-1C8EBE944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0CF9-3396-4E2F-8B10-9378D32538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upload.wikimedia.org/wikipedia/commons/2/28/Wikijunior_Ancient_Civilizations_Composite.png&amp;imgrefurl=http://commons.wikimedia.org/wiki/Image:Wikijunior_Ancient_Civilizations_Composite.png&amp;h=534&amp;w=534&amp;sz=620&amp;hl=es&amp;start=8&amp;usg=__l_Y7ZEXCPclmhmHzXqj8myy8N_o=&amp;tbnid=cf_c4HrWBqrQYM:&amp;tbnh=132&amp;tbnw=132&amp;prev=/images%3Fq%3Dancient%2Bcivilizations%26gbv%3D2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inkycircus.com/jargon/images/trilobyte.jpg&amp;imgrefurl=http://www.inkycircus.com/jargon/2006/04/fossils_fossils.html&amp;h=297&amp;w=480&amp;sz=65&amp;hl=es&amp;start=5&amp;usg=__eBOBfyEnXO93tplW2r1RvYDo4VU=&amp;tbnid=W4O-TckyEx8-4M:&amp;tbnh=80&amp;tbnw=129&amp;prev=/images%3Fq%3Dfossils%26gbv%3D2%26hl%3Des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hn/imgres?imgurl=http://www.brandeis.edu/departments/classics/Photos%2520of%2520Artifacts/Artifacts-.jpg&amp;imgrefurl=http://www.brandeis.edu/departments/classics/CLARC.html&amp;h=350&amp;w=352&amp;sz=52&amp;hl=es&amp;start=1&amp;usg=__NR53d1gdaXPcsJ0bTDVLgnyLOGM=&amp;tbnid=c4vnV9rrGytUHM:&amp;tbnh=119&amp;tbnw=120&amp;prev=/images%3Fq%3Dartifacts%26gbv%3D2%26hl%3Des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hn/imgres?imgurl=http://www.cm-mafra.pt/cultura/img/arqueologia.jpg&amp;imgrefurl=http://sindicatount.blogspot.com/2008/04/unt-apoya-la-firma-de-un-convenio.html&amp;h=225&amp;w=300&amp;sz=38&amp;hl=es&amp;start=5&amp;usg=__wyMqC2hZD1IjN_V6gKEN2AwWErM=&amp;tbnid=XvPGl3KOwdQqPM:&amp;tbnh=87&amp;tbnw=116&amp;prev=/images%3Fq%3Darqueologia%26gbv%3D2%26hl%3Des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hn/imgres?imgurl=http://www.h4ppy.com/blog/uploaded_images/Jebel%2520Acacus%2520Cave%2520paintings%25203-756757.JPG&amp;imgrefurl=http://www.h4ppy.com/blog/archives/2006_04_01_h4ppy.html&amp;h=427&amp;w=640&amp;sz=60&amp;hl=es&amp;start=1&amp;usg=__cFzf0lZz7TyuQeGTx5Z0eznb16M=&amp;tbnid=S5cAjSQSqcPHyM:&amp;tbnh=91&amp;tbnw=137&amp;prev=/images%3Fq%3Dcave%2Bpaintings%26gbv%3D2%26hl%3Des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hn/imgres?imgurl=http://www.mimenta.com/Images/Extra%2520Graphics/VA07/CavePaintingLascaux.jpg&amp;imgrefurl=http://www.mimenta.com/VisualArts/Visual%2520Art07.html&amp;h=457&amp;w=670&amp;sz=116&amp;hl=es&amp;start=4&amp;usg=__RXt_6yIo45cwrWYq8XEtgdJ1x5M=&amp;tbnid=YDqFrtUwPk8P6M:&amp;tbnh=94&amp;tbnw=138&amp;prev=/images%3Fq%3Dcave%2Bpaintings%26gbv%3D2%26hl%3Des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upestre.it/tracce/imma2002/bhim1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EARLY HUMANS AND SOCIETI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VERING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242100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hort Answers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people and the places where they live is called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a photograph be considered a primary source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the following is a primary source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hoto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rea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ncyclo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88640"/>
            <a:ext cx="77724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with ancient writing that is shown is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ource an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source and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ource and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source and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42498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3374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16360" y="2884320"/>
            <a:ext cx="39607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fer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54936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use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artifact tell archaeologists and historians about the society or culture that create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84360" y="2954160"/>
            <a:ext cx="39592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YING HISTO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Y is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IANS are people who study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istorians study the past to understand people`s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E is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se who forget their past are doomed to repea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0560" y="27756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RQUE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QUEOLOGY is 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QUEOLOGISTS are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. Jewelery, dishes,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SSILS are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TIFACTS are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3320" y="3532320"/>
            <a:ext cx="1876320" cy="1163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5226120"/>
            <a:ext cx="1646280" cy="163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5280"/>
            <a:ext cx="4248000" cy="323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573360"/>
            <a:ext cx="4392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3870360" cy="391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4675320" cy="33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771640" y="4149720"/>
            <a:ext cx="273708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VE PAINTINGS (2 GROUPS OF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b your finger pain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te your own cave painting, each student should draw at least 1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drawing your 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subject of the ar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artist trying to say through this pain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ith Play dough create an artifact. You can decorate your artifact with some finger pa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ach student should create an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crating your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o made i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artifact used fo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rom what time period is this artifact fr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CTIVIT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llow the instructions of the teacher to create your own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ose a seashell, rock, stick or any object you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Keep in mind the following while you are crating your art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What is the fossil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How long was it foun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rces of information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sources are of 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imary source is an account of an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s: Treaties, letters, diaries, audio or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ary source is information gathered by someone who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s: history textbooks, journal articles, encyclope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05:02:16Z</dcterms:created>
  <dc:creator>original</dc:creator>
  <dc:description/>
  <dc:language>en-US</dc:language>
  <cp:lastModifiedBy>Teacher</cp:lastModifiedBy>
  <dcterms:modified xsi:type="dcterms:W3CDTF">2003-05-15T23:31:14Z</dcterms:modified>
  <cp:revision>9</cp:revision>
  <dc:subject/>
  <dc:title>EARLY HUMANS AND SOCIETIES</dc:title>
</cp:coreProperties>
</file>